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9B03-7A03-4B46-BA11-E22303B1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89B8-6E05-407C-B8F4-B40BA691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0D41-2CC2-479A-ACDA-18235E49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3B36-601C-4B59-99E0-6527F8D31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C809-A4FF-496E-BB0B-3AC79FB9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F9CA-9AA2-44B8-AEE1-8AB67B8D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0FEE-37DA-4A54-91B6-29A5237E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2327-E4FA-415A-90FD-E11530E4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1C18-612D-4897-8301-F1D07924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26E8-CD42-4801-B6A0-3F9BAA98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AF73-B7F4-4A08-8644-00E749FF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1A90-27BE-437B-887A-335D06C4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3FD6-A87E-457E-9F0B-449A59FC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5A6A-4CC4-41DB-9372-45E379FE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2016-2789-47C8-9BD6-97BE50AB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D36D-8A56-41C4-8559-CBF57DBDF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F398-3459-4F00-A95C-277AEDA6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5C5B-D702-4D82-B1F8-EFB220DE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047C-B6A0-4487-AE8F-A951A3C9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13DB-A17E-48A0-9F07-471DB7A0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4278-1DBF-405E-B284-F4752BE1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0CB8-4DD5-4B07-BB8E-46347FF8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BA49-BEAA-4425-93B4-19E3CC1D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4828-2014-4764-92DC-C3421BC8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477C-1529-4695-8B8E-2AF24E890E96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D9A9-086E-4B45-BEB8-73F71D39ABC2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bskids.org/itsmylife/celeebs/audio/taylor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Course:</a:t>
            </a:r>
            <a:br>
              <a:rPr sz="5000"/>
            </a:b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Fundamentals of Research</a:t>
            </a:r>
            <a:endParaRPr b="1" lang="en-US" sz="5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rt II: Data Collection: Interview Techniqu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orkshop 8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erview process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Ask to the chosen respondent/s an appointment: time, venue, permission to record etc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interviewer decide the venue should be prepared with a friendly atmosphere, not noisy, neutral without influences for the interview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Arial"/>
              </a:rPr>
              <a:t>Estimate the length of the interview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you cannot conduct it in 2 times or be interrupted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Record the interview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mportant to listen and transcribe the answer to code them easi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erview process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7c80"/>
                </a:solidFill>
                <a:latin typeface="Arial"/>
              </a:rPr>
              <a:t>Notice the interviewee behaviour, attitudes.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66cc"/>
                </a:solidFill>
                <a:latin typeface="Arial"/>
              </a:rPr>
              <a:t>Make a blue/pri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90092"/>
                </a:solidFill>
                <a:latin typeface="Arial"/>
              </a:rPr>
              <a:t>Remember questions should b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9966"/>
                </a:solidFill>
                <a:latin typeface="Arial"/>
              </a:rPr>
              <a:t>Cle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cc66"/>
                </a:solidFill>
                <a:latin typeface="Arial"/>
              </a:rPr>
              <a:t>Non le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33"/>
                </a:solidFill>
                <a:latin typeface="Arial"/>
              </a:rPr>
              <a:t>Avoid jarg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00"/>
                </a:solidFill>
                <a:latin typeface="Arial"/>
              </a:rPr>
              <a:t>One at a ti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Arial"/>
              </a:rPr>
              <a:t>Use KISS meth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w to collect interview d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Before designing the interview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800f0"/>
                </a:solidFill>
                <a:latin typeface="Arial"/>
              </a:rPr>
              <a:t>Decide the purpos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800f0"/>
                </a:solidFill>
                <a:latin typeface="Arial"/>
              </a:rPr>
              <a:t>The results you need to g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800f0"/>
                </a:solidFill>
                <a:latin typeface="Arial"/>
              </a:rPr>
              <a:t>Decide the methods of analysi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800f0"/>
                </a:solidFill>
                <a:latin typeface="Arial"/>
              </a:rPr>
              <a:t>Decide how to present results/find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800f0"/>
                </a:solidFill>
                <a:latin typeface="Arial"/>
              </a:rPr>
              <a:t>Interview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800f0"/>
                </a:solidFill>
                <a:latin typeface="Arial"/>
              </a:rPr>
              <a:t>How to collect interview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800f0"/>
                </a:solidFill>
                <a:latin typeface="Arial"/>
              </a:rPr>
              <a:t>Choose a topic of your interes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Design an interview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Defining what is the purp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Define how you will collec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00"/>
                </a:solidFill>
                <a:latin typeface="Arial"/>
              </a:rPr>
              <a:t>Define how you will analyz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cc"/>
                </a:solidFill>
                <a:latin typeface="Arial"/>
              </a:rPr>
              <a:t>Define how you will presen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ounded Rectangle 4"/>
          <p:cNvSpPr/>
          <p:nvPr/>
        </p:nvSpPr>
        <p:spPr>
          <a:xfrm>
            <a:off x="785880" y="4202280"/>
            <a:ext cx="496728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106560" bIns="106560" anchor="ctr">
            <a:no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0066"/>
                </a:solidFill>
                <a:latin typeface="Arial"/>
              </a:rPr>
              <a:t>Thank you</a:t>
            </a:r>
            <a:endParaRPr b="1" lang="en-US" sz="6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int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pbskids.org/itsmylife/celeebs/audio/taylor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ctives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Recall prior knowled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Types of questions in the int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Types of questions in the int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Examples of the 3 types of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Analyzing an int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Interviewer ski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call prior knowled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What is a surve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What are the method used for survey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Based on what we choose the metho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What are the advantages of each metho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What are the tool used in each metho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ypes of questions in the int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00"/>
                </a:solidFill>
                <a:latin typeface="Arial"/>
              </a:rPr>
              <a:t>Structured interview (close/end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ff"/>
                </a:solidFill>
                <a:latin typeface="Arial"/>
              </a:rPr>
              <a:t>Unstructured interview (open/end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Semi/Structured interview (mix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66"/>
                </a:solidFill>
                <a:latin typeface="Arial"/>
              </a:rPr>
              <a:t>What are the advantages and disadvantages of these types of question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How to ask them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0066"/>
                </a:solidFill>
                <a:latin typeface="Arial"/>
              </a:rPr>
              <a:t>Examples of the 3 types of questions</a:t>
            </a:r>
            <a:r>
              <a:rPr b="1" lang="en-US" sz="3900" spc="-1" strike="noStrike">
                <a:solidFill>
                  <a:srgbClr val="3366ff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Arial"/>
              </a:rPr>
              <a:t>Structured</a:t>
            </a:r>
            <a:r>
              <a:rPr b="0" lang="en-US" sz="26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Arial"/>
              </a:rPr>
              <a:t>Do you think that Qatar should bid for the 2016 Olympics? Semi/Structured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(Likert scale, Dichotomu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ff"/>
                </a:solidFill>
                <a:latin typeface="Arial"/>
              </a:rPr>
              <a:t>Unstructu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ff"/>
                </a:solidFill>
                <a:latin typeface="Arial"/>
              </a:rPr>
              <a:t>What do you think about Qatar biding for the 2016 Olympic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ff"/>
                </a:solidFill>
                <a:latin typeface="Arial"/>
              </a:rPr>
              <a:t>Semi/Structu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ff"/>
                </a:solidFill>
                <a:latin typeface="Arial"/>
              </a:rPr>
              <a:t>Do you think that Qatar should bid for the 2016 Olympics?…….. Wh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alyzing an int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cc"/>
                </a:solidFill>
                <a:latin typeface="Arial"/>
              </a:rPr>
              <a:t>Activity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alyze the transcript of the interview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ff"/>
                </a:solidFill>
                <a:latin typeface="Arial"/>
              </a:rPr>
              <a:t>What type of interview is this?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66ff"/>
                </a:solidFill>
                <a:latin typeface="Arial"/>
              </a:rPr>
              <a:t>(Structured, Unstructured or semi/structur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cc"/>
                </a:solidFill>
                <a:latin typeface="Arial"/>
              </a:rPr>
              <a:t>Which are open/ended and which close/ended question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Arial"/>
              </a:rPr>
              <a:t>Are the questions biased/leading question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erviewer skil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viewer mus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Make the interviewee feel comfort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Arial"/>
              </a:rPr>
              <a:t>Be flex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00"/>
                </a:solidFill>
                <a:latin typeface="Arial"/>
              </a:rPr>
              <a:t>Notice all gestures, facial expressions, behaviours and attitude of interviewe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Understand when it is necessary to ask open/ended questions to have better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66"/>
                </a:solidFill>
                <a:latin typeface="Arial"/>
              </a:rPr>
              <a:t>Do not influence the interviewee with your ges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erview process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cc"/>
                </a:solidFill>
                <a:latin typeface="Arial"/>
              </a:rPr>
              <a:t>Make the seg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00"/>
                </a:solidFill>
                <a:latin typeface="Arial"/>
              </a:rPr>
              <a:t>Design the int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7c80"/>
                </a:solidFill>
                <a:latin typeface="Arial"/>
              </a:rPr>
              <a:t>Seek for “Informed Consent”of chosen respondent/s if they agree to be interviewed, explain the purpose and inform them about all they need to know 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(see ethics of surve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6:26:51Z</dcterms:created>
  <dc:creator>user</dc:creator>
  <dc:description/>
  <dc:language>en-US</dc:language>
  <cp:lastModifiedBy>Lorenza Innocenti</cp:lastModifiedBy>
  <dcterms:modified xsi:type="dcterms:W3CDTF">2008-05-25T08:06:09Z</dcterms:modified>
  <cp:revision>59</cp:revision>
  <dc:subject/>
  <dc:title>Course: Fundamentals of Research</dc:title>
</cp:coreProperties>
</file>